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6EC-2121-4940-BBA5-1E5E20A6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721-EAFA-4F9E-BC4E-BC838587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3A9C3-12D0-428A-9139-A4CC6DE7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3389F-5AD2-4477-B700-6E917DA7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A0025-FDA4-49DF-8159-1B39549C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CDE7C-3788-47D1-BBBC-0B63E5E5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A5E62-1163-4DF7-AE65-6BFB46B6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C1C39-3502-4A27-8874-38BE7061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E65CE-1920-434E-A364-A41BEA7A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F4405-FAF8-45C0-8A30-9B795A50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93723-55D6-44F6-8B33-6CDBA569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46624-617F-4DC7-A0E2-406FB682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DB2-8C78-462B-A34B-F20A183E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AE403-C4F6-4D52-9255-7C819D95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E1488-B776-49BD-BD55-E10031C2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DA73B-3CD8-4B4D-90A5-887B5571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7CBFE-803F-429F-A7BB-1E06BF5A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8E737-176B-4131-838B-36335CCE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9A1BF-478F-47A6-AD2D-23DBCF4B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6A82E-7FFF-4421-84A8-5FAD2919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E5946-4540-43C1-AE9A-3A7DE592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4807B-DFA4-43DD-A4FA-0A498FEE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1E67F-5889-4D19-B03C-8EDD2415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A2D-C6B6-4451-83C6-1ECB2F7F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99479-C85C-4099-8A73-2346E03E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F4274-46BC-42B3-BD8F-3B30E315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5AB6E-7D17-4AAA-A86B-B8BE6FB4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7EB8D-0DE2-4644-9B15-58D090A9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81767-8F18-4681-B083-00D0A588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DEA18-0381-4EF4-B672-F6F30F9F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C9C4E-8060-41E9-AA6A-68B8FBEF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E5A24-EA69-409B-92E0-4E2D45F8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2765E-9790-4912-BE3F-43186409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D61D8-063D-4798-A9CE-C55BA527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6DB3-8335-4BE1-A0A6-7EBA6A85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323B5-B058-4045-8CA3-5479B53C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A46BA-0420-445C-811E-531EB789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F3F36-C1B0-44F5-BD21-1221CC4E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EB8FD-ADC0-4712-9F4A-DD18E783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B98E6-8085-4855-A6EA-23F73610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9EA3C-7AE6-48D6-8FD0-966DC967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07363-A7E0-40D3-A051-9C1BF941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01689-B6E6-4858-98AB-A97A6BC2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CAA3B-EC65-42A8-97CF-A41096D9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AB372-80DA-4903-A5AD-87600139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C9E1-9504-4A59-B5C9-DEAE8113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AA11C-4F77-4891-993B-08E13853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81963-A59F-449D-A18B-75896A9F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93D9A-A243-4DE0-9F0E-E38C4C67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58F5E-C79A-4F39-932F-0ADC43B0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E243C-1C16-483B-8E0B-648968B3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2250-E9FE-4377-A523-3CDE5CAC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0AF1-D56E-40D7-8B08-5D0AB1ED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B777-20A8-45D1-B863-252B750D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B3C0-A24D-4E93-86C6-EFB63E6E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2DAE-5670-4C04-947C-A11C0281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53D-0B38-48C7-B386-2C786BDA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C22C-B783-49AB-B5B5-BABB65A5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23CA-959E-4E2D-A038-CDA44D2F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E2C2-EE4B-48B5-BD93-58E40A0E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05A7-CF8B-42A3-A653-AD4ECC22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DBB3-6974-4398-87D3-A61AD707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DB57A-0BB9-48D8-92C2-9B6CDDDC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E30E9-4ACE-46B5-96CE-81D9D937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0377B-DAFD-48F6-B0D4-A14ABA09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0548B-955A-4385-9F5F-9A03A362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1741E-FB35-4A66-9FD9-50BA7F1D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DF4-1DE0-4A1B-B5D6-F69B97B7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B73B6-83B2-4F00-92D6-BAF39EFF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C2DB6-C6DA-4C03-9D45-D615485D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378CD-8F7F-4236-8B68-7BEE4AF8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5780D-0F94-428F-9025-2958804D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B6CB-1E7D-4AF7-A726-53BAD51C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ED670-E726-47FA-852F-1884C4A6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BB56A-8F03-4026-8846-8C5A8E55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84B95-7067-438F-8223-28F983D1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7B746-F504-4C21-A8C0-1849971D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6BEA8-910A-4CE9-8778-B61ECAC7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F83-0054-4ED3-81A4-1D14DB78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5BD7E-2423-4A5E-8DD5-9C652A42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4727A-9348-4F5C-A177-7B24E62F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E35B6-95AD-4410-B43B-BA0D4145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95156-412A-493C-AD1D-2C90C3D2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BFB60-24AF-47D8-86B7-750069D3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9050-51D6-4262-89C3-D335AB7C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F7E7-EF69-40A3-8BDF-2833AA86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8903C-875F-45C4-BA63-CF264AB3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0A121-2E97-413C-9A4D-9F545726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E3A04-A7E9-4819-B1D4-15EB6AAA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A02-B4AE-401A-8153-BFBF5770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B6A4C-E0E3-4965-863B-DFFE9447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537A7-88F8-4BB2-8FD5-99960193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97E60-231E-40AE-9831-BDB7AA92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0F9A1-0E68-4C72-A632-E0E0DF8F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243BC-7397-4ABD-82E5-2F062FC3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58529-0A24-4403-A7FE-7A02E46B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79E8A-A6A4-47BB-9090-5C5E9275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AB715-3B86-462A-8BF1-25B1DAD9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F8D8C-22CA-4FCB-A381-D1D6D2FA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5CA86-E6E3-4564-BB8D-98EE36E0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A9D-EC1F-448F-B84D-EEE1B172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31033-7068-4E4E-8F47-BD0828E9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BD772-EC17-4985-B39C-EBDC07EF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A71E4-F80A-4291-ABE2-88CCAE87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6B60E-8443-4A67-96C5-9AD4A530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BEC23-C42A-48D9-A46D-CE1F3CF9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7D150-2FF1-484A-A5C6-9F635614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6BF87-4181-4AA4-9411-19F50014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F2221-0235-4993-BC44-497DD2CA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E2761-D7A3-43ED-A965-DE007C7A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2AA24-BCAA-4B88-B1F2-9DA1F249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A6B-017D-4895-AC59-D17AB6BA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7E7D1-E96B-41A9-A29D-A9561571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0CAA6-96F0-4067-9959-676693A8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F2379-8350-450B-B3D4-28B1BAE2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4BFAE-A84C-4F7A-A653-7EFA5A80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3DEAF-0010-487D-8F67-00C385D1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95A59-9CBF-4B8E-8930-DE285ADE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F01C9-D406-43C6-BF6F-E2076222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875C9-284A-44FB-ADFB-75762FA3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31C84-9A5D-4E17-B59D-C3052EB9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E158C-5662-49D9-9247-7575B65A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652-A714-47D1-B370-1FAA4199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63C7F-798A-4AA6-85E2-61E34D69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004C7-1E01-4BA3-9CBE-273A1923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D508B-A182-4AFC-8922-9F99C521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AABD7-C0F0-4CE9-BCF4-36D62009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77597-9285-4F6A-AA14-6EAD25FF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C0FC6-221A-42E5-9786-0931C44D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859BB-1F9B-4D7F-87CA-E1FE897D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D7B71-D783-4AF4-8302-C851B047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2104F-6FF3-48DC-8054-3EAF9E45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3C13B-F65C-472E-AEFC-AAB1339E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472-F850-4A55-88EE-A4AFAA5C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C64BE-52AB-4A59-9DFC-23FE8E2A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ABC0A-6924-4D0B-A771-2A85E4F4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8BA17-6691-4E6E-BD3C-240EB36C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CB2E5-1A71-4BE6-89FB-6D3DA2E4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8414F-8118-4837-A256-135818D5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D2310-2F8F-4615-B1D3-831FE012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7CB3D-3270-40D2-98F4-D21F3717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8DF77-57EB-4CB9-97BF-53FD0A90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60252-BD35-426B-97A8-C21DBADD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59D2D-82BF-4D74-822F-D9FB773A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A448-AEEB-4EAB-A717-7AA0C189CA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19D1-1B47-42DD-AD44-63F54970AC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7F03-A8CF-4914-861B-91B84409852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7156-E980-4BF1-9C44-0287B01C5D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CE66-A538-44AC-A19E-E523301FEB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2DF3-4EF0-4D71-B84B-24A12E7BA1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77AC-9B29-4C62-9BDC-1A355733505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2384-E6DB-4FEE-BECA-22A5AD1A70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A431-8139-47C9-8C7F-BE38B541C2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6479-AE8E-4589-B6F1-F94982411F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CB01-E9A8-4EC6-BEFA-C8DC4467B4B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4001-667D-42B5-916B-5AC431B895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63 Viem o domove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ých kr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žiariť bude večný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radosť, pokoj dá nám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všetky slzy zotrie 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iem o domove večných kr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vládne mier a lásky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vať zem tú svojou otčin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je mojou tú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bou jedinou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em nádherná, zem ľúbez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em nová, verným sľúbe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stratí moc už smrti ti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žiariť bude večný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radosť, pokoj dá nám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všetky slzy zotrie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Pán tam pre nás priprav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ešte nikto nezaž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dosiaľ nám je nezn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raz pochopíme, pozn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em nádherná, zem ľúbez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em nová, verným sľúbe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stratí moc už smrti ti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žiariť bude večný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radosť, pokoj dá nám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všetky slzy zotrie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Spasiteľa uzri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naveky s n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 bud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v jeho stálej blízk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a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é blaho rozhost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em nádherná, zem ľúbez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em nová, verným sľúbe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stratí moc už smrti ti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49:36Z</dcterms:modified>
  <cp:revision>23</cp:revision>
  <dc:subject/>
  <dc:title>Je veľký náš Pán, on slávy je Kráľ Nech do všetkých strán  spev vrúcnych znie chvál.</dc:title>
</cp:coreProperties>
</file>